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B31-6409-48E3-89DB-2116E96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AC5-6C59-4A4D-B483-196321D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5CF-7CCC-4B61-B73C-6CC1265E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1CF-5F5E-4A81-ABFD-2E732F92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3CBA-7DC8-4284-AD9A-259B1444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806C-2571-4FE8-A703-8B9E4EB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7BAF-4A89-4403-8C2A-91B96F1E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6BFE-DAB9-4C6B-B443-82E3003C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84DB-C69E-4BF1-B66D-C830C068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E0A4-0039-4B36-A664-C4A290E0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889-161A-402B-99A0-C501397E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BF3-2ECE-4482-B687-25C2299B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165A-46D6-4AE4-A114-9B6E3C36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33D0-69B7-4661-B3E8-9CF6D9D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1D76-4265-46FB-9857-8986FC5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82A1-2809-4AD0-8212-B6222F98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6B5B-F986-4F00-B6DF-A61F533F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4F8D-AF54-43F5-841F-49966847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77B2-438E-4E1E-94A4-FC54476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3765-477C-46E9-830B-990264FC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0096-8C02-4276-9DE3-CFE14AC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E0B0-294E-41D2-ADBE-6646EA9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14F-00B8-4C0E-B9A1-BC5972F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1D2F-89C5-44F5-BF8A-F04C03F1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5206-D0D2-4823-916B-22552E98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4351-9573-4567-B9E9-81B6A16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6B6A-213A-4C98-80F0-0FCA1FD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6A83-FAFD-4760-8FC8-F415CAB6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F08B-B149-432E-BD0D-04FBCABD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3547-74E1-4D41-BE85-7064C02C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13FF-EB14-4A9A-9B7A-8D6B94D5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F843-855B-4D1E-8B26-CCCB6CEA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7B53-2CF3-4BAD-9FFF-CBFAD64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B77-9231-48C3-97D7-65F1329F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EA2A-AC65-4977-932C-8C0AD1FF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519D-D11E-447B-9443-92032766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BB9D-BE26-4817-BC96-E2898449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14AF-83F0-43C9-AE1A-98938A3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B35C-EB65-4868-868A-B56FAA6E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B097-FDBC-4A1C-B075-4DC1504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241C-074D-43A8-9ABF-05DB62A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5097-4F1A-449F-BF08-5FC103C3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5A06-10C6-4E28-8683-6BA26275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72A9-4869-4579-9438-11C88F7A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96F-EAD1-4AE1-8B24-9DC2B1E2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9BE9-732B-4830-B6DD-2BE16364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584C5-CADD-4BD4-A1CA-22D809FB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9ADA-B26A-4B24-A8B2-CE4BBB5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DF6A8-A760-4C1D-B3F5-16DBCA98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C747-011D-449E-97E2-09CE418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FE85-C2D1-4B01-90DE-07E3A79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B6D7-9E80-4761-B28C-DDDF4190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8EC62-9571-480A-B24F-87DDA8E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FF77C-C81B-4CF0-A3BA-FF61C184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3BBC8-FE34-497F-B5F7-88A4A27B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AAF-F317-4790-9B83-AD5590A7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40374-9024-45DF-A056-4F596BE9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BEE-01C4-42F8-80B3-B1C47E0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545-E26C-4335-A5F9-AC79280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ED4-E19D-49A9-9857-E2537A3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01F0-AAB1-4E59-A49A-1CBFD8D07D6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9307-2F6D-4A8D-8D1D-AC800EDE6C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B66-ACBF-434A-BED1-83D5BA7F41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FD2E-766A-41EA-83FF-3F877782FD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E965-FCB1-4BB2-A9FD-CFEA4AD04FC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36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cribe the process of how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 gets into the plant and up to the leav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re and contras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apoplastic flow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symplastic flow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plain the mass flow of materials in the phloem (source to sink)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36_07Turgor_UP"/>
          <p:cNvPicPr/>
          <p:nvPr/>
        </p:nvPicPr>
        <p:blipFill>
          <a:blip r:embed="rId1"/>
          <a:stretch/>
        </p:blipFill>
        <p:spPr>
          <a:xfrm>
            <a:off x="1828800" y="380880"/>
            <a:ext cx="5905440" cy="5220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5040" y="5867280"/>
            <a:ext cx="7497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A watered </a:t>
            </a:r>
            <a:r>
              <a:rPr b="0" i="1" lang="en-US" sz="2400" spc="-1" strike="noStrike">
                <a:solidFill>
                  <a:srgbClr val="572314"/>
                </a:solidFill>
                <a:latin typeface="Gill Sans MT"/>
              </a:rPr>
              <a:t>impatiens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 plant regains its turgor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72314"/>
                </a:solidFill>
                <a:uFillTx/>
                <a:latin typeface="Gill Sans MT"/>
              </a:rPr>
              <a:t>Vascular Tissues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: conduct molecule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295280" y="1828800"/>
          <a:ext cx="7499520" cy="399096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97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y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hl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nliving func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ving func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ylem sap = 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 &amp; mi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hloem sap = sucrose, minerals, amino acids, hor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rce to s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sugar made) to (sugar consumed/stor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57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ransport of H</a:t>
            </a:r>
            <a:r>
              <a:rPr b="0" lang="en-US" sz="2800" spc="-1" strike="noStrike" baseline="-25000">
                <a:solidFill>
                  <a:srgbClr val="572314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O and minerals into xylem: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66680" y="990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oot epidermi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orte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[Casparian Strip]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vascular cylind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xylem tissu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shoot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6" name="Picture 31" descr="36_10_RootHairsToXylem-L.jpg"/>
          <p:cNvPicPr/>
          <p:nvPr/>
        </p:nvPicPr>
        <p:blipFill>
          <a:blip r:embed="rId1"/>
          <a:stretch/>
        </p:blipFill>
        <p:spPr>
          <a:xfrm>
            <a:off x="2209680" y="2209680"/>
            <a:ext cx="55627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3" descr="_x0017_36_10Mycorrhizae_UP.jpg                                        0002A27C&#10;CS1-Vol.07                     BD7D9C21:"/>
          <p:cNvPicPr/>
          <p:nvPr/>
        </p:nvPicPr>
        <p:blipFill>
          <a:blip r:embed="rId1"/>
          <a:stretch/>
        </p:blipFill>
        <p:spPr>
          <a:xfrm>
            <a:off x="5259240" y="3811680"/>
            <a:ext cx="3351240" cy="2817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t Root Epiderm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Root hai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increase surface area of absorption at root ti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ycorrhiza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symbiotic relationship between fungus + roo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/mineral absor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1143000" y="59072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te mycelium of the fungus ensheathes these roots of a pine t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5" descr="36_06ShortDistanceTrans-L.jpg"/>
          <p:cNvPicPr/>
          <p:nvPr/>
        </p:nvPicPr>
        <p:blipFill>
          <a:blip r:embed="rId1"/>
          <a:stretch/>
        </p:blipFill>
        <p:spPr>
          <a:xfrm>
            <a:off x="838080" y="2641680"/>
            <a:ext cx="7709040" cy="4216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2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</a:rPr>
              <a:t>Transport pathways across Cortex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14400"/>
            <a:ext cx="84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opl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terials travel between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pl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terials cross cell membrane, move through cytosol &amp; plasmodesm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122040"/>
            <a:ext cx="749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ry into Vascular Cylinder: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71600" y="83808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Endoderm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inner layer of cortex) sealed by </a:t>
            </a:r>
            <a:r>
              <a:rPr b="1" i="1" lang="en-US" sz="2600" spc="-1" strike="noStrike">
                <a:solidFill>
                  <a:srgbClr val="ff0000"/>
                </a:solidFill>
                <a:latin typeface="Gill Sans MT"/>
              </a:rPr>
              <a:t>Casparian strip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waxy materia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locks passage of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and miner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materials absorbed from roots enter xylem throug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selectively permeable membra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ympla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try onl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6" name="Picture 31" descr="36_10_RootHairsToXylem-L.jpg"/>
          <p:cNvPicPr/>
          <p:nvPr/>
        </p:nvPicPr>
        <p:blipFill>
          <a:blip r:embed="rId1"/>
          <a:stretch/>
        </p:blipFill>
        <p:spPr>
          <a:xfrm>
            <a:off x="3048120" y="3505320"/>
            <a:ext cx="4197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How does material move vertically (against gravity)?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28640" y="15238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7888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Gill Sans MT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lo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via evaporation from leaves into a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ot pressure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(least importa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15760" indent="-49896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usion into root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push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ap 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ohesion-tension hypo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iration provides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hesion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 transmits pull from root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o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498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9" name="Picture 2" descr="http://fig.cox.miami.edu/Faculty/Dana/potential.jpg"/>
          <p:cNvPicPr/>
          <p:nvPr/>
        </p:nvPicPr>
        <p:blipFill>
          <a:blip r:embed="rId1"/>
          <a:stretch/>
        </p:blipFill>
        <p:spPr>
          <a:xfrm>
            <a:off x="228600" y="1523880"/>
            <a:ext cx="31734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36_13_XylemSapAscent-L.jpg"/>
          <p:cNvPicPr/>
          <p:nvPr/>
        </p:nvPicPr>
        <p:blipFill>
          <a:blip r:embed="rId1"/>
          <a:stretch/>
        </p:blipFill>
        <p:spPr>
          <a:xfrm>
            <a:off x="298440" y="136440"/>
            <a:ext cx="85471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219320" y="304560"/>
            <a:ext cx="76197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Gutta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exudation of water droplets seen in morning (not dew), caused by root press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2" name="Picture 2" descr="36_11Guttation_UP"/>
          <p:cNvPicPr/>
          <p:nvPr/>
        </p:nvPicPr>
        <p:blipFill>
          <a:blip r:embed="rId1"/>
          <a:stretch/>
        </p:blipFill>
        <p:spPr>
          <a:xfrm>
            <a:off x="205740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Stomata regulate rate of transpiration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066320" y="7617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tomat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pores in epidermis of leaves/stems, allow gas exchange and transpi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Guard cell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open/close stoma by changing sha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ake up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lower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ake up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re ope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se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lose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ells less bowe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re clos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" name="Content Placeholder 5" descr="36_15bStomatalMechanisms-L.jpg"/>
          <p:cNvPicPr/>
          <p:nvPr/>
        </p:nvPicPr>
        <p:blipFill>
          <a:blip r:embed="rId1"/>
          <a:stretch/>
        </p:blipFill>
        <p:spPr>
          <a:xfrm>
            <a:off x="2209680" y="3117960"/>
            <a:ext cx="53388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36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 is transpiration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 are mycorrhizae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 is the function of the Casparian strip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218960" y="761760"/>
            <a:ext cx="7499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s stimulated </a:t>
            </a: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y: light, loss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leaf, circadian rhy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mata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drought, high temperature, wi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7" name="Picture 45" descr="_x0013_36_14Stomata_UP.jpg                                            0002A27C&#10;CS1-Vol.07                     BD7D9C21:"/>
          <p:cNvPicPr/>
          <p:nvPr/>
        </p:nvPicPr>
        <p:blipFill>
          <a:blip r:embed="rId1"/>
          <a:stretch/>
        </p:blipFill>
        <p:spPr>
          <a:xfrm>
            <a:off x="1295280" y="3200400"/>
            <a:ext cx="754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BIOFLIX: WATER TRANSPORT IN PLA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gar Transpor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4475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ransport of sugars into phloem by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ressure f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= produce sugar (photosynthesi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k = consume/store sugar (fruit, roo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ieve-tube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ransport of sucro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29040" y="685440"/>
            <a:ext cx="2133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Bulk flow in a sieve tub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3" name="Content Placeholder 3" descr="36_18BulkFlow-L.jpg"/>
          <p:cNvPicPr/>
          <p:nvPr/>
        </p:nvPicPr>
        <p:blipFill>
          <a:blip r:embed="rId1"/>
          <a:stretch/>
        </p:blipFill>
        <p:spPr>
          <a:xfrm>
            <a:off x="45720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ymplast is dynami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lasmodesmata allows movement of RNA &amp; proteins between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loem can carry rapid, long-distance electrical signa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rve-lik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ft commun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ges in gene expression, respiration, photo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1720" y="228600"/>
            <a:ext cx="74070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pter 3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431720" y="118440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ource Acquisition and Transport in Vascular Pla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3" name="Picture 2" descr="36_01Redwoods_UP"/>
          <p:cNvPicPr/>
          <p:nvPr/>
        </p:nvPicPr>
        <p:blipFill>
          <a:blip r:embed="rId1"/>
          <a:stretch/>
        </p:blipFill>
        <p:spPr>
          <a:xfrm>
            <a:off x="1905120" y="2057400"/>
            <a:ext cx="62481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you need to know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role of passive transport, active transport, and cotransport in plant transpor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role of diffusion, active transport, and bulk flow in the movement of water and nutrients in plant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he transpiration cohesion-tension mechanism explain water movement in plant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pressure flow explains translo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43600" y="1142640"/>
            <a:ext cx="29844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What does a plant need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67" name="Content Placeholder 3" descr="36_02TrasnsportOverview_3-L.jpg"/>
          <p:cNvPicPr/>
          <p:nvPr/>
        </p:nvPicPr>
        <p:blipFill>
          <a:blip r:embed="rId1"/>
          <a:stretch/>
        </p:blipFill>
        <p:spPr>
          <a:xfrm>
            <a:off x="380880" y="115920"/>
            <a:ext cx="55119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vie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osmosis, transport proteins, selective cha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Proton pum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active transport; uses E to pump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ut of cel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ton grad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otranspor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coupl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iffusion with sucrose trans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quapori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ransport protein which control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uptake/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2" descr="36_07_SoluteTransport-L.jpg"/>
          <p:cNvPicPr/>
          <p:nvPr/>
        </p:nvPicPr>
        <p:blipFill>
          <a:blip r:embed="rId1"/>
          <a:stretch/>
        </p:blipFill>
        <p:spPr>
          <a:xfrm>
            <a:off x="660240" y="0"/>
            <a:ext cx="566424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38320" y="3855600"/>
            <a:ext cx="35053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olute transport across plant cell plasma membra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Osmo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06668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**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Water potential (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ψ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moves from high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low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potential, solute conc. &amp; pr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ter potential equation: 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=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e potential (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 – osmotic potenti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ssure potential (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 – physical pressure on solu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re water: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= 0 Mp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always negative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Gill Sans MT"/>
              </a:rPr>
              <a:t>Turgor pressure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= force on cell wal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Bulk flow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move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in plant from regions of 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low pr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** Review AP Bio Investigation 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434960" y="5331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Flacc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limp (wilt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Plasmolyz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shrink, pull away from cell wall (kills most plant cells) due 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urg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firm (healthy pla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5" name="Picture 2" descr="http://mason.gmu.edu/~jlawrey/biol304/biol304/elodea%20plasmolyzed.jpg"/>
          <p:cNvPicPr/>
          <p:nvPr/>
        </p:nvPicPr>
        <p:blipFill>
          <a:blip r:embed="rId1"/>
          <a:stretch/>
        </p:blipFill>
        <p:spPr>
          <a:xfrm>
            <a:off x="6821640" y="3255840"/>
            <a:ext cx="2090520" cy="26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mason.gmu.edu/~jlawrey/biol304/biol304/elodea%20turgid.jpg"/>
          <p:cNvPicPr/>
          <p:nvPr/>
        </p:nvPicPr>
        <p:blipFill>
          <a:blip r:embed="rId2"/>
          <a:stretch/>
        </p:blipFill>
        <p:spPr>
          <a:xfrm>
            <a:off x="493560" y="3255840"/>
            <a:ext cx="2036880" cy="2638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leavingbio.net/OSMOSIS%20AND%20DIFFUSION_files/image021.gif"/>
          <p:cNvPicPr/>
          <p:nvPr/>
        </p:nvPicPr>
        <p:blipFill>
          <a:blip r:embed="rId3"/>
          <a:stretch/>
        </p:blipFill>
        <p:spPr>
          <a:xfrm>
            <a:off x="2743200" y="3352680"/>
            <a:ext cx="3809880" cy="24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8" name="TextBox 7"/>
          <p:cNvSpPr/>
          <p:nvPr/>
        </p:nvSpPr>
        <p:spPr>
          <a:xfrm>
            <a:off x="403200" y="5869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gid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670572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46:10Z</dcterms:created>
  <dc:creator>Chris Nancy Chou</dc:creator>
  <dc:description/>
  <dc:language>en-US</dc:language>
  <cp:lastModifiedBy>Chris Nancy Chou</cp:lastModifiedBy>
  <dcterms:modified xsi:type="dcterms:W3CDTF">2013-04-18T07:46:20Z</dcterms:modified>
  <cp:revision>46</cp:revision>
  <dc:subject/>
  <dc:title>Warm-Up</dc:title>
</cp:coreProperties>
</file>